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BBC8-7300-4B3A-9803-19C872FF17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3A91-70A4-4B5D-8903-79B15A319D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szucs@vati.hu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128384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Hazai társfinanszírozási támogatási szerződés megkötésének folyamata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712680"/>
            <a:ext cx="11315880" cy="979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űcs Júl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Köszönöm a figyelmet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Szűcs Jú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Programkoordiná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szucs@vati.hu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Telefon: (1) 224-32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040" y="544680"/>
            <a:ext cx="1078560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ársfinanszíroz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10125000" cy="530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160/2009. (VIII. 3) Korm. rendelet 19. §, 23-27. 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özponti költségvetési támogatás – további pályáztatás nélk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rojektrész teljes elszámolható költségének 10 vagy 15%-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Szerződéskötés a nyertes projektek hazai partnerei és a VÁTI Nonprofit Kft. közö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ifizetés: teljes összege előlegként euróban, a szerződés megkötésétől számított 30 napon bel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7040" y="112068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társfinanszírozási szerződés megkötésének alapvető feltétele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055600"/>
            <a:ext cx="10125000" cy="4725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közösségi támogatási szerződés megkötés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artnerségi megállapodás aláírás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Nemzeti Hatóság részéről a hazai partner által megvalósított projektrészre vonatkozó kötelezettségvállalási nyilatkozat kiadás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760" y="255600"/>
            <a:ext cx="9617040" cy="1224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1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320" y="1696680"/>
            <a:ext cx="10729800" cy="475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ubsidy Contrac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Partnership Agreemen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Application Form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óinak aláírási címpéldánya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vezet létrejöttét és működését tanúsító okira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szervezet adata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hazai partner magyarországi bankszámlá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elek beszedési megbízásra (vagy más, rendeletben meghatározott biztosíté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19. § (12) bekezdés c) pontja alapján az önkormányzatok biztosítéknyújtási kötelezettség alóli mentességéről (amennyiben releván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368/2011. (XII. 31.) Korm. rendelet 72. § (2) bekezdése alapjá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60" y="32832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320" y="1697040"/>
            <a:ext cx="9621720" cy="5013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ÁFA nyilatkoza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21. § (4) bekezdése alapján a közösségi értékhatárt elérő vagy azt meghaladó értékű közbeszerzések tervezéséről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sználói szabályzat az IMIR 2007-2013 Monitoring és Információs Rendszer Front Office felületének használatához, amelyen keresztül a partneri jelentések kerülnek benyújtásra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ozzájáruló nyilatkozat személyes adat kezeléséhe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tevékenységeinek leírás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közösségi hozzájárulás megelőlegezéséhez - a 160/2009. (VIII. 3.) Korm. rendelet 27/A. szakasza értelmében jogosult szervezetek eseté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90504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ERFA támogatás megelőlegez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3400" y="191268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160/2009. (VIII. 3.) Korm. rendelet 27/A. szakasza alapjá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benyújtása szükséges, melynek feltétele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nem központi költségvetési szerv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költségvetése eléri vagy meghaladja a 550.000 EUR-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Megyei Intézményfenntartó Központ vagy Regionális Fejlesztési Ügynökség függetlenül a projektrész költségvetésének összegét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A nemzeti kontrollerek által kiküldött tájékoztató tartalmazza a megelőlegezéssel kapcsolatos információkat, valamint a kérelem elektronikusan is csatolásra kerü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328680"/>
            <a:ext cx="961704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iztosítékok kö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263240"/>
            <a:ext cx="10297800" cy="576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élen alapuló beszedési megbízá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iztosítási szerződés alapján kiállított, a készfizető kezességvállalását tartalmazó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garanciabiztosítási szerződés alapján kiállított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ankgaran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em köteles biztosítékot nyújtani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központi költségvetési szerv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helyi önkormányzat, a helyi kisebbségi önkormányzat, a többcélú kistérségi társulás, az önkormányzatok egyéb társulása, 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a) a támogatás teljes egészében önként vállalt helyi közügy megoldását vagy önkormányzati kötelező feladat ellátását szolgálja, va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b) a fejlesztés tárgya vagy a fejlesztés eredményeként létrejövő vagyontárgy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önkormányzati törzsvagyon, vagy törzsvagyonná vál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szerződés megkötésének men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040" y="1623960"/>
            <a:ext cx="9621720" cy="494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kötéshez szükséges dokumentumok benyújtása az értesítőlevél átvételétől számított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az aláírt Főszerződés, Partnerségi Megállapodás kézhezvételét követő 10 napon belü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gyeztetés a VÁTI Nonprofit Kft. kijelölt kapcsolattartójáv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Dokumentumok teljességének, megfelelőségének ellenőrzése, szükség esetén hiánypótlá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ettségvállalási nyilatkozat kiállítása az NH részéről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tervezet összeállítása, ellenőrzé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üldése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3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példányban a hazai partner részére aláírás céljábó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ása EEPI főosztályvezetője és helyettese részér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ötése tényének rögzítése az IMIR 2007-2013-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400" y="8319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Társfinanszírozási szerződés módosít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7325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1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szerű módosít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isebb átcsoportosítás a költségvetés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Változás a bankszámlák adataiban (új számla bejelentése, régi megszűnteté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apcsolattartó/aláíró személyében, adataiban változ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2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ársfinanszírozási támogatási szerződésmódosítással járó változ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projektrész teljes költségvetése változik (nő/csökk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változik a projekt végrehajtás üteme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7760" y="1552680"/>
            <a:ext cx="5272200" cy="604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6:58:44Z</dcterms:modified>
  <cp:revision>180</cp:revision>
  <dc:subject/>
  <dc:title>1. dia</dc:title>
</cp:coreProperties>
</file>